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camera.wav" ContentType="audio/x-wav"/>
  <Override PartName="/ppt/media/image7.jpeg" ContentType="image/jpeg"/>
  <Override PartName="/ppt/media/image10.wmf" ContentType="image/x-wmf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5D3-F47F-4F9B-9771-4B2383C9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D9E-7FBC-4F4A-9C75-F08636A4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AB6-2C55-461B-B922-6023FEFC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A9C-ED45-4D4F-A179-B23D82D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C698-FE9D-431D-A06C-DF930182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D1B4-14B3-47F3-93AD-BD9B318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C5E3-AEDA-4975-9298-8717E218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97A8-741F-4596-934F-8405C3E2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BDF7-E8FB-45AB-B8EF-C6D8B9C6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8D81-2208-4230-9F99-4EF5A7AE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DF8E-6094-4569-9F70-34D36C01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383-73ED-45F7-ABBE-933BFFAC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CC8-E563-49AD-9ADA-BB05D40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A4AD-D093-40C9-BC37-366E480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E96D-D149-4C7E-A41D-0056B887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B7C4-C353-493F-8971-06BE714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3E4A-6A95-440F-AF38-01F3D21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324-E0DE-46A3-AE55-61B14BC7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E92-6C46-4E5A-B8B5-4C39616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712-0E90-4154-A048-A556A5A4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4D8-D50B-4906-B72B-51A33BE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203-2E36-48EF-9175-75CF3A1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FC1-5065-4575-B43B-E43B39B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23B-202E-4D40-A5C5-079554D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1028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1029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1030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1031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1032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1033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34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35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036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037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038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039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040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041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042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043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044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1045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1046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1047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1048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1049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1050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1051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1081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1082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1083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1084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1086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A01-4323-451F-94AF-418C1C37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542C-4EA9-45CD-917F-C7AA7816416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ratherbiased.com/index2.htm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obvila.com/BVTV/HomeAgain/Episode-1409.html" TargetMode="External"/><Relationship Id="rId3" Type="http://schemas.openxmlformats.org/officeDocument/2006/relationships/hyperlink" Target="http://www.bobvila.com/BVTV/HomeAgain/Episode-1409.html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ve Spea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e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4" descr="C:\Program Files\Microsoft Office\Clipart\Pub60Cor\pe00898_.wmf"/>
          <p:cNvPicPr/>
          <p:nvPr/>
        </p:nvPicPr>
        <p:blipFill>
          <a:blip r:embed="rId1"/>
          <a:stretch/>
        </p:blipFill>
        <p:spPr>
          <a:xfrm>
            <a:off x="1600200" y="3865680"/>
            <a:ext cx="579132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chniques of Informative Speaking, co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ke it easy to list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atch for information over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oose 3 to 5 main ide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information and examples that connect to the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simple information and build up to complex ide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4" descr="\\select\Select\SMS2.0PKGS\Publisher2000\PFiles\MSOffice\Clipart\standard\stddir1\bd05555_.wmf"/>
          <p:cNvPicPr/>
          <p:nvPr/>
        </p:nvPicPr>
        <p:blipFill>
          <a:blip r:embed="rId2"/>
          <a:stretch/>
        </p:blipFill>
        <p:spPr>
          <a:xfrm>
            <a:off x="6095880" y="762120"/>
            <a:ext cx="2579760" cy="152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chniques of Informative Speaking, co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mphasize important poi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pet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wording of important poi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gnpo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ds or phrases that emphasize the importance of what you are about to sa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714760" y="2460600"/>
            <a:ext cx="914400" cy="2620800"/>
            <a:chOff x="2714760" y="2460600"/>
            <a:chExt cx="914400" cy="2620800"/>
          </a:xfrm>
        </p:grpSpPr>
        <p:sp>
          <p:nvSpPr>
            <p:cNvPr id="241" name="Rectangle 5"/>
            <p:cNvSpPr/>
            <p:nvPr/>
          </p:nvSpPr>
          <p:spPr>
            <a:xfrm>
              <a:off x="2714760" y="2460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2714760" y="2460600"/>
              <a:ext cx="914400" cy="26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142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                      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43" name="Picture 7" descr="http://www.holidays.net/mlk/images/numlk.jpg"/>
          <p:cNvPicPr/>
          <p:nvPr/>
        </p:nvPicPr>
        <p:blipFill>
          <a:blip r:embed="rId2"/>
          <a:stretch/>
        </p:blipFill>
        <p:spPr>
          <a:xfrm>
            <a:off x="6477120" y="1219320"/>
            <a:ext cx="214920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s of Informative Speaking, con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ke the message cle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ware of what you intend to communic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uld this message sound clear to you if you heard if for the first tim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s of Informative Speaking, con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ke the presentation interes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ate to your listeners intere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teresting presentation ai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hum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humor to make a poi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ke yourself the butt of the jo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humorous quo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ganization &amp; Structu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tion (tell what you’re going to sa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audience interest and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view thesis/purpose stat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view main p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ganization &amp; Structu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Body (say i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 division of main points to 3 to 5 subp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good trans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der points in a way that is easy to understand and re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ganization &amp; Structu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conclusion (tell what you’ve sai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ew main p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ind audience why the subject is important to th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 the audience with a memory ai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rganization &amp; Structu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te audience invol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ition: level of commitment and attention that listeners devote to a spee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p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sonalize your spee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audience particip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volunte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ve a question and answer peri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roduction &amp;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formative vs. Persuasive Spee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ypes of informative spe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chniques of informative spe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ganization an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Picture 7" descr="http://www.ratherbiased.com/photos/dan_wi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4038480"/>
            <a:ext cx="572616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formative vs. Persuasive Speech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formative speeches are non-controvers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formative speaker does not intend to change audience attitu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6" descr="Image: Tom Brokaw"/>
          <p:cNvPicPr/>
          <p:nvPr/>
        </p:nvPicPr>
        <p:blipFill>
          <a:blip r:embed="rId3"/>
          <a:stretch/>
        </p:blipFill>
        <p:spPr>
          <a:xfrm>
            <a:off x="1371600" y="4114800"/>
            <a:ext cx="2286000" cy="24004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-714240" y="166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16" descr="http://www.noi.org/images/mlf-press3.jpg"/>
          <p:cNvPicPr/>
          <p:nvPr/>
        </p:nvPicPr>
        <p:blipFill>
          <a:blip r:embed="rId4"/>
          <a:stretch/>
        </p:blipFill>
        <p:spPr>
          <a:xfrm>
            <a:off x="5410080" y="411480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Informative Spea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con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purpo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d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as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6" descr="Peter Jennings"/>
          <p:cNvPicPr/>
          <p:nvPr/>
        </p:nvPicPr>
        <p:blipFill>
          <a:blip r:embed="rId8"/>
          <a:stretch/>
        </p:blipFill>
        <p:spPr>
          <a:xfrm>
            <a:off x="4419720" y="1676520"/>
            <a:ext cx="3427200" cy="422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formative Speeches by Conten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r speech can inform based 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c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e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angible ideas, beliefs, theories or princip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Picture 5" descr="photo of Grand Canyon National Park"/>
          <p:cNvPicPr/>
          <p:nvPr/>
        </p:nvPicPr>
        <p:blipFill>
          <a:blip r:embed="rId2"/>
          <a:stretch/>
        </p:blipFill>
        <p:spPr>
          <a:xfrm>
            <a:off x="4495680" y="2438280"/>
            <a:ext cx="32576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formative Speeches by Purpos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r speech can inform based 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p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anation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ructions 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5" descr="http://www.bobvila.com/images/BVTV/HomeAgain/ProjectImages/1409_episo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666880"/>
            <a:ext cx="3373200" cy="3373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ve speech about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ple, straightforward spee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: cello, digital cameras, stamp coll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ime limit determines the amount of detail one can sh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ve speech about peo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iographical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need to tell everything about a person; Relate information to a specific purpo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chniques of Informative Speaking, cont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nformation hun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 the audience a reason to listen to and learn from your spee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4" descr="\\select\Select\SMS2.0PKGS\Publisher2000\PFiles\MSOffice\Clipart\standard\stddir3\pe01627_.wmf"/>
          <p:cNvPicPr/>
          <p:nvPr/>
        </p:nvPicPr>
        <p:blipFill>
          <a:blip r:embed="rId2"/>
          <a:stretch/>
        </p:blipFill>
        <p:spPr>
          <a:xfrm>
            <a:off x="1447920" y="3657600"/>
            <a:ext cx="5867280" cy="293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0:10:18Z</dcterms:created>
  <dc:creator>lwinslow</dc:creator>
  <dc:description/>
  <dc:language>en-US</dc:language>
  <cp:lastModifiedBy>Angie McCall</cp:lastModifiedBy>
  <dcterms:modified xsi:type="dcterms:W3CDTF">2013-11-12T16:53:08Z</dcterms:modified>
  <cp:revision>26</cp:revision>
  <dc:subject/>
  <dc:title>Informative Speaking</dc:title>
</cp:coreProperties>
</file>